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130-D444-4F6A-8136-5B627F7B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0C3-2F28-4318-B633-7A748D6F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F5A-3435-4962-A615-6D108260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D39-24EC-4A8F-8232-AC2838FD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2389-6DB6-4B48-B701-4E6347C7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8DAD-B9CC-493B-A7EE-02F06299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CC25-215F-44F6-A3EA-9AC920DC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B8F7-1C85-4093-9C20-53782FFB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A808-7290-45E8-9E44-A2537987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DE80-E115-4D42-9F3E-3D613E84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EAC2-D78D-4392-999E-BAF009A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42C-2AC8-4194-9F72-CB9553D7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65EF-F0C4-4CD8-92A0-7287234F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FDA6-FE7D-4702-BECE-A7FF56A5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CBF1-86A9-491F-9BF4-CDF48F76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6358-1582-471C-83E2-C50E0E1A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72F0-27F2-4A5F-886C-731E923F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FA6-BFD8-4247-8771-7210600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CF5-EF8D-4201-8593-7DE5D746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6C9-F55B-4A6B-94BB-64FF7BB1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F9B-DECE-46AB-9A89-2A8E250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E34-2970-45C4-9D52-F369445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64A-E6EB-49E4-9231-D7AE8A9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AE0-5991-435F-A4A6-86215FB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309D-28AC-4280-AC88-B50DC5898C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2798-04B6-40EB-9513-8B60B13CC7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00"/>
                </a:solidFill>
                <a:latin typeface="Times New Roman"/>
              </a:rPr>
              <a:t>Wheels on the bu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art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d you know…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oung children are most likely to be hit because they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urry to get on or off the bus,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t before they think and have little experience with traffic,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motorists will see them and will wait for them to cross,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n't always stay within the bus driver's sight, or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op something as they get off the bus and run into the path of the bus to pick it up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od job!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Waiting well back from the b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14440" y="1828800"/>
            <a:ext cx="6815160" cy="403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l done…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o pushing    -single file   -plenty of spac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52880" y="2347920"/>
            <a:ext cx="373392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2347920"/>
            <a:ext cx="365760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memb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000320" cy="39621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 PUSHING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would be awful to be pushed under the whee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ep bags in front or undernea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2743200" cy="403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2673360" cy="403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72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g in front and…           move away from the b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353040" cy="40384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40384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angerzone!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his is the area around the bus where the bus driver has trouble seeing you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AY 5 BIG STEPS AWAY FROM THE BUS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00320" cy="3962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sappearing Clas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he bus driver could only se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students!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All the rest were in his blind spo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000320" cy="39621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06:43:20Z</dcterms:created>
  <dc:creator>Educating NZ</dc:creator>
  <dc:description/>
  <dc:language>en-US</dc:language>
  <cp:lastModifiedBy>Educating NZ</cp:lastModifiedBy>
  <dcterms:modified xsi:type="dcterms:W3CDTF">2008-07-22T07:20:30Z</dcterms:modified>
  <cp:revision>2</cp:revision>
  <dc:subject/>
  <dc:title>Wheels on the bus</dc:title>
</cp:coreProperties>
</file>